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FB3-3C87-4066-87DB-179B00FB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8CC-1D7D-4B53-AC9A-7EFFFF0F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CC4-8E9C-4FDC-9AED-D10A487E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195-F6A8-4F84-B9D3-DFA8E6EF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D6E-65DB-472E-BEC0-A8D679C8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1CB-79D1-4D11-AB7B-1963B575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D84-6E34-42F9-9DD2-EF75EFE2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324-4440-48A3-8A20-38CD70FD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A50B-D101-4FD3-8C2E-E54DF383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E06F-4620-4D99-977D-222ACA97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6CBA-E111-4F65-B141-30E13151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EF05-3B50-4B21-A962-2DD2AAC6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268F-F447-4DB5-9A3E-2D1DA1C5BE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4 класс 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3885840"/>
            <a:ext cx="8856720" cy="28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2"/>
          <p:cNvSpPr/>
          <p:nvPr/>
        </p:nvSpPr>
        <p:spPr>
          <a:xfrm>
            <a:off x="-52560" y="4869000"/>
            <a:ext cx="9196560" cy="2232000"/>
          </a:xfrm>
          <a:custGeom>
            <a:avLst/>
            <a:gdLst>
              <a:gd name="textAreaLeft" fmla="*/ 0 w 9196560"/>
              <a:gd name="textAreaRight" fmla="*/ 9196920 w 919656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ddd0fc32575ct"/>
          <p:cNvPicPr/>
          <p:nvPr/>
        </p:nvPicPr>
        <p:blipFill>
          <a:blip r:embed="rId1"/>
          <a:stretch/>
        </p:blipFill>
        <p:spPr>
          <a:xfrm>
            <a:off x="277164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c0504d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c0504d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f81bd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4f81bd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arg-blue-left-tr"/>
          <p:cNvPicPr/>
          <p:nvPr/>
        </p:nvPicPr>
        <p:blipFill>
          <a:blip r:embed="rId2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ani-bird_red"/>
          <p:cNvPicPr/>
          <p:nvPr/>
        </p:nvPicPr>
        <p:blipFill>
          <a:blip r:embed="rId3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b13"/>
          <p:cNvPicPr/>
          <p:nvPr/>
        </p:nvPicPr>
        <p:blipFill>
          <a:blip r:embed="rId4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b13"/>
          <p:cNvPicPr/>
          <p:nvPr/>
        </p:nvPicPr>
        <p:blipFill>
          <a:blip r:embed="rId5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0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5580000" y="278136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2" descr="B_Fly31"/>
          <p:cNvPicPr/>
          <p:nvPr/>
        </p:nvPicPr>
        <p:blipFill>
          <a:blip r:embed="rId6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3" descr="B_Fly21"/>
          <p:cNvPicPr/>
          <p:nvPr/>
        </p:nvPicPr>
        <p:blipFill>
          <a:blip r:embed="rId7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B_Fly14"/>
          <p:cNvPicPr/>
          <p:nvPr/>
        </p:nvPicPr>
        <p:blipFill>
          <a:blip r:embed="rId8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5" descr="b11"/>
          <p:cNvPicPr/>
          <p:nvPr/>
        </p:nvPicPr>
        <p:blipFill>
          <a:blip r:embed="rId9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b11"/>
          <p:cNvPicPr/>
          <p:nvPr/>
        </p:nvPicPr>
        <p:blipFill>
          <a:blip r:embed="rId10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7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1232028.wav" descr=""/>
          <p:cNvPicPr/>
          <p:nvPr/>
        </p:nvPicPr>
        <p:blipFill>
          <a:blip r:embed="rId1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4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1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21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4" nodeType="afterEffect" fill="hold" presetClass="path" presetID="4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21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2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81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28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2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289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29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 еще не родился, а уже думали: 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Кто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? Что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?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 Какое ему дать имя? Решили назвать –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Именитель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6"/>
          <p:cNvSpPr/>
          <p:nvPr/>
        </p:nvSpPr>
        <p:spPr>
          <a:xfrm>
            <a:off x="179280" y="172260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тицы  – нашы/и   друзь/ъя.   О/Ани  о/ахр. няют  п .ля  л .са (от)  вр.дител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/аж .лейте   п .рнатых   друзей!   П .м .гите   птицам   з .мой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023840" y="282600"/>
            <a:ext cx="77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00275"/>
                </a:solidFill>
                <a:latin typeface="Arial"/>
              </a:rPr>
              <a:t>Решить орфографические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635640" y="1989000"/>
            <a:ext cx="175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о сл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508720" y="1996920"/>
            <a:ext cx="172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7093080" y="1989000"/>
            <a:ext cx="155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ч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Рисунок1в"/>
          <p:cNvPicPr/>
          <p:nvPr/>
        </p:nvPicPr>
        <p:blipFill>
          <a:blip r:embed="rId1"/>
          <a:srcRect l="0" t="0" r="0" b="13781"/>
          <a:stretch/>
        </p:blipFill>
        <p:spPr>
          <a:xfrm>
            <a:off x="6877080" y="5084640"/>
            <a:ext cx="2266920" cy="1630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23640" y="1989000"/>
            <a:ext cx="3272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ен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н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ор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7"/>
          <p:cNvSpPr txBox="1"/>
          <p:nvPr/>
        </p:nvSpPr>
        <p:spPr>
          <a:xfrm>
            <a:off x="539640" y="333360"/>
            <a:ext cx="806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дежи русского языка</a:t>
            </a:r>
            <a:endParaRPr b="1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зминка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веди аналог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c1626"/>
                </a:solidFill>
                <a:latin typeface="Arial"/>
              </a:rPr>
              <a:t>Чёрное – белое = огонь –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Война – смерть = …     - жиз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ысь – кошка = волк -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Дети – игра = взрослые -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428760" y="600084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йди лишнюю пару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зминка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бер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ва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главных подходящих слов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9280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ЛЕС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лист, яблоня, охотник, дерево, кустарник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ВОЙНА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аэроплан, пушки, сражения, солдаты, ружьё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РЕКА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берег, рыба, тина, рыболов, вод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Что объединяет данные  слов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На какие  группы можно их раздели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67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ставь пропущенные буквы. Спиши, подчеркн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ишнее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ло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78552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1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Х…зяйство, д…р…га, к…мбайн, ко….ектив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од…езд, с…ёмка, в…юга, об…явл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2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Д…карь, д…ждинка, ж…стянка, кр…винк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а..ажир, Ро…ия, п…года, су..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Что объединяет все сло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2437"/>
                </a:solidFill>
                <a:latin typeface="Calibri"/>
              </a:rPr>
              <a:t>Языковая размин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тицы  – нашы/и   друзь/ъя.   О/Ани  о/ахр. няют  п .ля, л.са (от)  вр.дителей.По/аж .лейте   п .рнатых   друзей!   П .м .гите   птицам   з .мой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Что такое имя существительно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На какие вопросы отвечают имена существительны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ак изменяются имена существительны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85840" y="7858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Друг это человек, который всё поймёт и поможет. Друга не забудешь через года. Другу доверишь любую тайну. Я уважаю своего друга. Я горжусь другом. Многие мечтают о настоящем друг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Прочитайте текст. О чём он? Найдите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родственные существительны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571320"/>
            <a:ext cx="2400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 дру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2928960" y="500040"/>
            <a:ext cx="2143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т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г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му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г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ем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О ком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357120" y="514368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С помощью вопросов определите падеж имён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500800" y="500040"/>
            <a:ext cx="2428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5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785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Calibri"/>
              </a:rPr>
              <a:t>Склонение имён существительных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214200" y="4000680"/>
            <a:ext cx="89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Что называется склон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Сколько падежей в русском языке? Назовит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На какие вопросы отвечают падежи имён существитель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1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42920" y="0"/>
          <a:ext cx="8858160" cy="6961320"/>
        </p:xfrm>
        <a:graphic>
          <a:graphicData uri="http://schemas.openxmlformats.org/drawingml/2006/table">
            <a:tbl>
              <a:tblPr/>
              <a:tblGrid>
                <a:gridCol w="1714320"/>
                <a:gridCol w="1649520"/>
                <a:gridCol w="1738440"/>
                <a:gridCol w="3755880"/>
              </a:tblGrid>
              <a:tr h="13532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падеж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ные 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, возле, до, из, для, около, от, подле, с, у, вокруг, кро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ойти 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, п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ж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, за, про, через, в, на, 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, между, над, под, с, со, пере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м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ко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, о, об, на, п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АСТЬ В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йдите и подчеркните в тексте          все имена существительные. Определи пад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раздник леса.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Школа объявила праздник леса.Ребята собрались у подъезда школы. Каждый принёс лопату и ведро. Подъехала машина. Она привезла саженцы. Теперь они будут защищать дорогу от сне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42840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1.(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Школ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Праздник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Лес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огда? во 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суббот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ебят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   (у 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У подъезда – </a:t>
            </a:r>
            <a:r>
              <a:rPr b="1" i="1" lang="ru-RU" sz="2400" spc="-1" strike="noStrike">
                <a:solidFill>
                  <a:srgbClr val="ee2437"/>
                </a:solidFill>
                <a:latin typeface="Arial"/>
              </a:rPr>
              <a:t>Р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Школы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Лопат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Ведро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4.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Машин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аженцы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ебят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Ёлочки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по чему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По сторонам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Д.п.      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ороги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6.(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Дорог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   (от 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От снег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АСТЬ С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пиши словосочетания, определи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падеж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уществите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9280" y="2133720"/>
            <a:ext cx="8856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глядывает из-за куста(      ), скачет по дорожке(       ), поют песню(      ), открыл рот(      ), не боится волка(      ), провожают друга(        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Упр.1, стр.1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Выучить таблицу «Падежи» на стр.9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9036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c1626"/>
                </a:solidFill>
                <a:latin typeface="Arial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c1626"/>
                </a:solidFill>
                <a:latin typeface="Arial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c1626"/>
                </a:solidFill>
                <a:latin typeface="Arial"/>
              </a:rPr>
              <a:t>Ляйсан Ильхам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77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5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9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000"/>
                            </p:stCondLst>
                            <p:childTnLst>
                              <p:par>
                                <p:cTn id="7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77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5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7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9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о найти слово, от которого данное существительное завис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вить вопрос от этого слова к тому, падеж которого мы определя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я вопрос и вспомогательные слова, определить пад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250920" y="0"/>
            <a:ext cx="856908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Как узнать падеж имени существительного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50920" y="2492280"/>
            <a:ext cx="77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  Найти  главное слово (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2692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0920" y="3716280"/>
            <a:ext cx="85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.  От главного слова поставить падежный  вопрос к зависимому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85840" y="5143680"/>
            <a:ext cx="801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о вопросу определить падеж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 rot="5400000">
            <a:off x="-2650680" y="3054960"/>
            <a:ext cx="645336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ПОМНИ!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476360" y="765000"/>
            <a:ext cx="153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И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Д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П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203640" y="907920"/>
            <a:ext cx="513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то? 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987640" y="1773360"/>
            <a:ext cx="506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го? ч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771640" y="2781360"/>
            <a:ext cx="434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му? 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843280" y="3645000"/>
            <a:ext cx="39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го? 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700360" y="4581360"/>
            <a:ext cx="455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ем? ч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2700360" y="551664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о ком? о чё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1476360" y="476280"/>
            <a:ext cx="6192720" cy="5761080"/>
          </a:xfrm>
          <a:prstGeom prst="sun">
            <a:avLst>
              <a:gd name="adj" fmla="val 2466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"/>
          <p:cNvSpPr/>
          <p:nvPr/>
        </p:nvSpPr>
        <p:spPr>
          <a:xfrm>
            <a:off x="3635280" y="2781360"/>
            <a:ext cx="360360" cy="288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5003640" y="2781360"/>
            <a:ext cx="360360" cy="288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4572000" y="3213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 rot="16200000">
            <a:off x="4355280" y="3716640"/>
            <a:ext cx="360360" cy="10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994" y="1146"/>
                  <a:pt x="6387" y="5080"/>
                  <a:pt x="6387" y="10800"/>
                </a:cubicBezTo>
                <a:cubicBezTo>
                  <a:pt x="6387" y="16520"/>
                  <a:pt x="13994" y="204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Детские Песни - Дорогою Добра.mp3" descr=""/>
          <p:cNvPicPr/>
          <p:nvPr/>
        </p:nvPicPr>
        <p:blipFill>
          <a:blip r:embed="rId1"/>
          <a:stretch/>
        </p:blipFill>
        <p:spPr>
          <a:xfrm>
            <a:off x="79567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0957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5:50:49Z</dcterms:created>
  <dc:creator>333</dc:creator>
  <dc:description>З.В. Александрова  http://aida.ucoz.ru</dc:description>
  <dc:language>en-US</dc:language>
  <cp:lastModifiedBy>английский нач-кл</cp:lastModifiedBy>
  <dcterms:modified xsi:type="dcterms:W3CDTF">2012-11-12T16:54:00Z</dcterms:modified>
  <cp:revision>39</cp:revision>
  <dc:subject/>
  <dc:title>3 класс  Русский язык</dc:title>
</cp:coreProperties>
</file>